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9.png" ContentType="image/png"/>
  <Override PartName="/ppt/media/image7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2673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113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2732040"/>
            <a:ext cx="849600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3D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-графика и анимация в программе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3DS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П.Василь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 «МУЛЬТИМЕДИА ТЕХН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7280" y="4221000"/>
            <a:ext cx="8496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пециаль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1900 "Информационные системы и техноло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E340-ECC1-492F-A6D6-4FC66572C15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48000" y="1011600"/>
            <a:ext cx="460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ерните свиток Edit Geometry. И напротив кнопки Extrude ведите число 0,01. После этого у нас появился еще один ряд полигонов, но он слишком маленький, для того, чтобы увеличить его используйте инструмент Select and Non-uniform Scale по осям XY по фронтальному, относительно модели, виду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70280" y="384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39800" y="284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13-33" descr=""/>
          <p:cNvPicPr/>
          <p:nvPr/>
        </p:nvPicPr>
        <p:blipFill>
          <a:blip r:embed="rId1"/>
          <a:stretch/>
        </p:blipFill>
        <p:spPr>
          <a:xfrm>
            <a:off x="287280" y="1125360"/>
            <a:ext cx="3745080" cy="27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68DF-DE47-4D8A-B446-1CA3CFB9C3B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48000" y="119592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зультат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70280" y="384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67080" y="500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14-33" descr=""/>
          <p:cNvPicPr/>
          <p:nvPr/>
        </p:nvPicPr>
        <p:blipFill>
          <a:blip r:embed="rId1"/>
          <a:stretch/>
        </p:blipFill>
        <p:spPr>
          <a:xfrm>
            <a:off x="358920" y="1160640"/>
            <a:ext cx="370836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24000" y="836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1974-CA29-433F-8E32-58184EF5A18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720" y="5040"/>
            <a:ext cx="798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Преобразование двухмерных форм в трехмер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объекты: выдавли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70280" y="384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6000" y="978120"/>
            <a:ext cx="86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нцип работы редактора выдавливания прост: создается некоторая сплайновая форма, которая используется для создания трехмерного объекта с заданным сечением. Такой метод очень удобен для моделирования предметов, имеющих постоянное поперечное сечение вдоль одной из ос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25760" y="464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64220" descr="Extrusion Editor"/>
          <p:cNvPicPr/>
          <p:nvPr/>
        </p:nvPicPr>
        <p:blipFill>
          <a:blip r:embed="rId1"/>
          <a:stretch/>
        </p:blipFill>
        <p:spPr>
          <a:xfrm>
            <a:off x="2087640" y="3357720"/>
            <a:ext cx="468000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24000" y="441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0BB3-BBC8-4C91-A57B-51201275ED3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4000" y="761400"/>
            <a:ext cx="846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нцип построения сплайна по точкам мало чем отличается от создания кривой в любой программе для векторной графики. Для каждой точки можно выбрать один из трех типов излома, а форму линии можно корректировать с помощью касательных. На панели инструментов редактора выдавливания можно найти инструмент для замыкания кривой, а также кнопки для быстрого создания 2D-форм самых распространенных типов: звездочки, стрелки, значка "плюс" и прочих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37040" y="50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64221" descr="Extrusion Editor"/>
          <p:cNvPicPr/>
          <p:nvPr/>
        </p:nvPicPr>
        <p:blipFill>
          <a:blip r:embed="rId1"/>
          <a:stretch/>
        </p:blipFill>
        <p:spPr>
          <a:xfrm>
            <a:off x="1476360" y="4545000"/>
            <a:ext cx="572472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24000" y="441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CB3B-A033-4C96-B3A2-1A6CC4173F4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69084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бы увидеть результат работы с этим инструментом, нужно вернуться на этап работы с редактором сце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79880" y="358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64222" descr="Extrusion Editor"/>
          <p:cNvPicPr/>
          <p:nvPr/>
        </p:nvPicPr>
        <p:blipFill>
          <a:blip r:embed="rId1"/>
          <a:stretch/>
        </p:blipFill>
        <p:spPr>
          <a:xfrm>
            <a:off x="2303640" y="1700280"/>
            <a:ext cx="3947760" cy="30988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31640" y="5011560"/>
            <a:ext cx="871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давливание можно также производить со скосом, что даст возможность получить несколько иной профиль конечной моде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F47B-7ACB-476A-890E-F7A803C46F5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40680" y="187920"/>
            <a:ext cx="51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Текстурная развертка в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3DS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70280" y="384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67080" y="500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36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spark2_2" descr=""/>
          <p:cNvPicPr/>
          <p:nvPr/>
        </p:nvPicPr>
        <p:blipFill>
          <a:blip r:embed="rId1"/>
          <a:stretch/>
        </p:blipFill>
        <p:spPr>
          <a:xfrm>
            <a:off x="431640" y="1484280"/>
            <a:ext cx="8209080" cy="43466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74560" y="87192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здание материала для текстурной разверт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24000" y="728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66DC-064F-407C-B5C9-7BFDCEA366E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7644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84520" y="32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spark2_17" descr=""/>
          <p:cNvPicPr/>
          <p:nvPr/>
        </p:nvPicPr>
        <p:blipFill>
          <a:blip r:embed="rId1"/>
          <a:stretch/>
        </p:blipFill>
        <p:spPr>
          <a:xfrm>
            <a:off x="324000" y="944640"/>
            <a:ext cx="3816360" cy="16844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006880" y="538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spark2_18" descr=""/>
          <p:cNvPicPr/>
          <p:nvPr/>
        </p:nvPicPr>
        <p:blipFill>
          <a:blip r:embed="rId2"/>
          <a:stretch/>
        </p:blipFill>
        <p:spPr>
          <a:xfrm>
            <a:off x="324000" y="3213000"/>
            <a:ext cx="3816360" cy="27259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319640" y="94608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7280" y="296064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19640" y="97992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ъект для снятия развер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56000" y="321192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кстурная разверт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018520" y="187920"/>
            <a:ext cx="51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Текстурная развертка в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3DS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8991-8919-4123-A4FF-F5616F56DCE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16360" y="2673360"/>
            <a:ext cx="40323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Создание и наложение текстур для фигуры полицейск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5280" y="1160640"/>
            <a:ext cx="40323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sMaxAnimation\Policmen\policmenwalk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sMaxAnimation\Policmen\policmen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sMaxAnimation\Policmen\policmenwalkmaps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44720" y="187920"/>
            <a:ext cx="73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Создание анимированных объектов в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3DS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451E-F2C4-4DEE-BB0B-5D867F2EEA1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80000" y="1592280"/>
            <a:ext cx="40323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имированный и озвученный 3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персонаж для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eb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созданный методом анимирования по ключевым кадр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1160640"/>
            <a:ext cx="40323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DsMaxAnimation\Klown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klown3d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DsMaxAnimation\Klown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klownsound.m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09800" y="187920"/>
            <a:ext cx="73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Создание анимированных объектов в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3DS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A43F-805D-413C-92EF-C8B70AE4232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0000" y="1197000"/>
            <a:ext cx="40323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араметрическая анимация  таяние и распа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имация связанных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имация столкнов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имирование част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имация иерархий       двуногие (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ip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080" y="1160640"/>
            <a:ext cx="421164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DsMaxAnimation\melt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DsMaxAnimation\blast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DsMaxAnimation\position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DsMaxAnimation\BiiiardReact.av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DsMaxAnimation\collision.av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DsMaxAnimation\fireworks52.av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DsMaxAnimation\fire_particles.av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DsMaxAnimation\FootStScelet.av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60720" y="187920"/>
            <a:ext cx="46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Разновидности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3D</a:t>
            </a: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 анимац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FA1D-25AA-42C9-A74D-A2C58E4BD9F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00" y="1198440"/>
            <a:ext cx="3708360" cy="2554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48000" y="1124280"/>
            <a:ext cx="46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й объект, который мы постро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ет сфе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ём сферу радиусом 40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количество сегментов задаём равное... давайте попробуем 3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7307-1260-4CDA-9404-2DEBB502352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1C7F-4FFA-4380-A6CD-69799BA1047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48000" y="1025280"/>
            <a:ext cx="46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том окне, где соединяются продольные линии сферы нажмите на 4/5 влево от центральной точки сферы и продолжайте рисовать этот сплайн до конца. В итоге закройте его. Вот подробный рисун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33600" y="198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3-33" descr=""/>
          <p:cNvPicPr/>
          <p:nvPr/>
        </p:nvPicPr>
        <p:blipFill>
          <a:blip r:embed="rId1"/>
          <a:stretch/>
        </p:blipFill>
        <p:spPr>
          <a:xfrm>
            <a:off x="216000" y="1174680"/>
            <a:ext cx="370836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0E1B-8E64-41B8-853E-69AD86B0033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48000" y="1157040"/>
            <a:ext cx="46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и в сплайне делайте только тогда, когда под Вашим курсором стоит синий крестик, т.к. нам нужно чтобы сплайн выравнивался по вершинам сферы. В итоге в окне Perspective будет примерно такой вид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8288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4-333" descr=""/>
          <p:cNvPicPr/>
          <p:nvPr/>
        </p:nvPicPr>
        <p:blipFill>
          <a:blip r:embed="rId1"/>
          <a:stretch/>
        </p:blipFill>
        <p:spPr>
          <a:xfrm>
            <a:off x="216000" y="1160640"/>
            <a:ext cx="388944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7F47-A510-47CD-B7FC-961DD63A33E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48000" y="1011600"/>
            <a:ext cx="460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жмём на кнопку S (на клавиатуре), чтобы выключить выравнивание по точк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ите в поле Number of copies число 1. Нажмите OK. В результате у нас будет уже не один, а два идентичных сплайна, но один из них будет немного отступать от сферы, а не прилегать вплотную как первы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5-33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385272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B89A-7B74-4E27-82FE-ACEFA7A7736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19640" y="986400"/>
            <a:ext cx="482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теперь нам нужно сделать сплайны-мостики между этими двумя большими сплайнами. . Выбираем сплайн (теперь он единственный). Во вкладке Modify нажимаем на кнопку Vertex (в свитке Selection), на которой нарисовано четыре точки. И нажимаем на кнопку Create Line, которая находится в свитке Geometry. Теперь, нажмите на любую точку, на сплайне, а затем нажмите на точку, располагающеюся перед предыдущ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6204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6-333" descr=""/>
          <p:cNvPicPr/>
          <p:nvPr/>
        </p:nvPicPr>
        <p:blipFill>
          <a:blip r:embed="rId1"/>
          <a:stretch/>
        </p:blipFill>
        <p:spPr>
          <a:xfrm>
            <a:off x="287280" y="1160640"/>
            <a:ext cx="370836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9DDA-1641-4B26-91DF-4205092C023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48000" y="1377360"/>
            <a:ext cx="46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жно нарисовать промежуточные сплайны, а потом соединить их. Сплайны в дальнейшем будут создаваться кнопкой Create Line, а не Line Shape (читайте выше). Вот какие и где должны будут быть у Вас сплай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7164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7-333" descr=""/>
          <p:cNvPicPr/>
          <p:nvPr/>
        </p:nvPicPr>
        <p:blipFill>
          <a:blip r:embed="rId1"/>
          <a:stretch/>
        </p:blipFill>
        <p:spPr>
          <a:xfrm>
            <a:off x="216000" y="1160640"/>
            <a:ext cx="381636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D1BC-240F-4FEE-BC7E-FB83BE01EC1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48000" y="1122480"/>
            <a:ext cx="460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ступим к созданию мостиковых сплайнов. Это гораздо проще. Начинайте их строить от самого маленького сплайна к самому крупному, попарно соединяя точки. Вот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27080" y="41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8-33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3852720" cy="26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D327-6E11-41C0-8DF1-EF79923B6C8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48000" y="1157760"/>
            <a:ext cx="46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местимся в стеках на Surface. И сконвертируем модель в Editable Mesh, нажав по ней правой кнопкой мыши и выбрал Convert To: / Convert To Editable Mesh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70280" y="384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10-33" descr=""/>
          <p:cNvPicPr/>
          <p:nvPr/>
        </p:nvPicPr>
        <p:blipFill>
          <a:blip r:embed="rId1"/>
          <a:stretch/>
        </p:blipFill>
        <p:spPr>
          <a:xfrm>
            <a:off x="216000" y="1160640"/>
            <a:ext cx="385128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User</cp:lastModifiedBy>
  <dcterms:modified xsi:type="dcterms:W3CDTF">2009-01-19T10:44:32Z</dcterms:modified>
  <cp:revision>107</cp:revision>
  <dc:subject/>
  <dc:title>Lecture Template </dc:title>
</cp:coreProperties>
</file>